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795-253D-4E15-B888-5B5F25C5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4DE-B4F9-48FD-AE35-D76F6DB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17C-DF30-4C4F-978C-4432D634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069-2764-4B79-9E6D-EC0DB284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6BE-9873-44EF-94B1-FDD6448A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CB6-A589-4272-BA37-1F70031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731-3CFF-491A-AAC0-FF4FEBD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A34-026B-4799-BD37-97DF7AF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B86-860C-4D40-9557-8E0B868F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772-94D1-4708-958D-CC93646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312-F821-4026-B047-9ADB7DE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994-F50C-4DF0-BF15-A0463A8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765-7EC4-4B93-B561-87B730C7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ircanada.com/en/onair/images/april2008/switzerland_top.jpg&amp;imgrefurl=http://www.aircanada.com/en/onair/april2008/foodanddrink.html&amp;usg=__teE8LxiF69NzdgYtu-KeFrzVJgo=&amp;h=350&amp;w=350&amp;sz=38&amp;hl=en&amp;start=16&amp;um=1&amp;itbs=1&amp;tbnid=fzBcMZfszkd7qM:&amp;tbnh=120&amp;tbnw=120&amp;prev=/images%3Fq%3Dswiss%2Bfood%26hl%3Den%26safe%3Dstrict%26sa%3DN%26um%3D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nlinethumb48.webshots.com/2863/2831955210100122321S425x425Q85.jpg&amp;imgrefurl=http://delectable-victuals.blogspot.com/2007/06/kartoffeln-potatoes-was-common-theme.html&amp;usg=__60X72hF91Vod2Zmrw3h1ABaMk5E=&amp;h=312&amp;w=425&amp;sz=40&amp;hl=en&amp;start=2&amp;um=1&amp;itbs=1&amp;tbnid=Cy7Jdys7PCfURM:&amp;tbnh=92&amp;tbnw=126&amp;prev=/images%3Fq%3Dswiss%2Bfood%26hl%3Den%26safe%3Dstrict%26sa%3DN%26um%3D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556/3400542678_aee4fe28bb.jpg&amp;imgrefurl=http://www.flickr.com/photos/xmascarol/3400542678/&amp;usg=__sf_mIUdvZgmhtRPXgX7AH9ZWJ_4=&amp;h=375&amp;w=500&amp;sz=195&amp;hl=en&amp;start=12&amp;um=1&amp;itbs=1&amp;tbnid=kL01YUBe_scaRM:&amp;tbnh=98&amp;tbnw=130&amp;prev=/images%3Fq%3Dswiss%2Bfood%26hl%3Den%26safe%3Dstrict%26sa%3DN%26um%3D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usee-suisse.ch/ci/03_schwyz/01_wechselausstellungen/2010/schweizer_trachten/schweizer_trachten_gh.jpg&amp;imgrefurl=http://www.musee-suisse.ch/e/schwyz/wechselausstellungen/2010/schweizer_trachten.php&amp;usg=__0q434nfOjxC0dPmaKITnEp73j7k=&amp;h=380&amp;w=253&amp;sz=25&amp;hl=en&amp;start=9&amp;itbs=1&amp;tbnid=nfP8UkQb_BfYrM:&amp;tbnh=123&amp;tbnw=82&amp;prev=/images%3Fq%3Dswiss%2Bcostumes%26gbv%3D2%26hl%3Den%26safe%3Dstrict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rlv.zcache.com/wine_mistresses_of_bern_swiss_costumes_mousepad-p144124373055659184trak_400.jpg&amp;imgrefurl=http://www.zazzle.com/wine_mistresses_of_bern_swiss_costumes_mousepad-144124373055659184&amp;usg=__yD6EaNH1-oAVNrOP_WzJG0v-l_o=&amp;h=400&amp;w=400&amp;sz=52&amp;hl=en&amp;start=3&amp;itbs=1&amp;tbnid=gGNOnJCRKxd0eM:&amp;tbnh=124&amp;tbnw=124&amp;prev=/images%3Fq%3Dswiss%2Bcostumes%26gbv%3D2%26hl%3Den%26safe%3Dstrict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Papyrus"/>
              </a:rPr>
              <a:t>The Doll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chitect"/>
              </a:rPr>
              <a:t>By: Sarah Atchison, Shauntiara Green, Danielle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The play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1897 play by Norwegian playwright Hedrick Ib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Written 1 year after the Pillars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The play was controversial when it first came out because it is critical to 19</a:t>
            </a:r>
            <a:r>
              <a:rPr b="0" lang="en-US" sz="3200" spc="-1" strike="noStrike" baseline="30000">
                <a:solidFill>
                  <a:srgbClr val="ff99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 century marriage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The play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In Germany, the productions lead actress refused to play the part of Nora unless Ibsen changed the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In the alternate ending, Nora gives her husband another chance after he reminds her of her responsibility to thei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Swiss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Foo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8600"/>
            <a:ext cx="91440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736640"/>
            <a:ext cx="7238880" cy="512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More foo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Broadway"/>
              </a:rPr>
              <a:t>Theatre History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Swiss theatre historically has been dominated by religious t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During the 18th century the government suppressed the performing arts, but in the 19th century patriotic plays eme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During the Nazi period in Germany (1933–45), Zurich's Schauspielhaus (German: “Playhouse”) was an important centre for theatre, where many refugee writers, directors, and actors performed or staged produ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Theatr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Nineteenth-century theatre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describes a wide range of movements in  the culture of the 19</a:t>
            </a:r>
            <a:r>
              <a:rPr b="0" lang="en-US" sz="2400" spc="-1" strike="noStrike" baseline="30000">
                <a:solidFill>
                  <a:srgbClr val="ff999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In the west, they include Romanism, melodrama, the well-made plays of Scribe and Sardou, the farces of Feyd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the theme of Realism in theater was </a:t>
            </a:r>
            <a:r>
              <a:rPr b="0" i="1" lang="en-US" sz="2400" spc="-1" strike="noStrike">
                <a:solidFill>
                  <a:srgbClr val="ff9999"/>
                </a:solidFill>
                <a:latin typeface="Arial"/>
              </a:rPr>
              <a:t>likeness to life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and this movement sought to create theater that was a laboratory for the nature of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The goal of a realism-era play was to set forth a functional or dysfunctional situation in an objective manner to an impartial au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The audience is meant to view the characters as a visitor observes animals in a z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Broadway"/>
              </a:rPr>
              <a:t>Cost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In 1914, the Bernese association devoted to the protection of regional traditions published a pamphlet criticizing what it described as the nonsense surrounding the styles in national costu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In the 1920s, the artistic committee of the Swiss Association called on artists throughout the country to portray people in traditional costu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6765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19810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Costume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4343400"/>
            <a:ext cx="23749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216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665760" y="0"/>
            <a:ext cx="24782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038480" y="0"/>
            <a:ext cx="261000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286000" y="0"/>
            <a:ext cx="1917720" cy="289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724280" y="3048120"/>
            <a:ext cx="171612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6172200" y="3048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286000" y="2286000"/>
            <a:ext cx="138924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581280" y="2362320"/>
            <a:ext cx="117000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4724280" y="52578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7331040" y="4419720"/>
            <a:ext cx="1812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ik Ib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The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A Doll’s house opens as Nora Helmer is telling Helene to hide the Christmas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Nora is treated as a childish, silly woman by her husb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a Doll’s house criticizes the traditional roles of men &amp; women in the 19</a:t>
            </a:r>
            <a:r>
              <a:rPr b="0" lang="en-US" sz="3200" spc="-1" strike="noStrike" baseline="30000">
                <a:solidFill>
                  <a:srgbClr val="ff99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 century marri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To many Europeans, this was scandal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07:43Z</dcterms:created>
  <dc:creator> </dc:creator>
  <dc:description/>
  <dc:language>en-US</dc:language>
  <cp:lastModifiedBy> </cp:lastModifiedBy>
  <dcterms:modified xsi:type="dcterms:W3CDTF">2010-02-05T21:20:58Z</dcterms:modified>
  <cp:revision>10</cp:revision>
  <dc:subject/>
  <dc:title>The Doll House</dc:title>
</cp:coreProperties>
</file>